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42B-EBD8-40FA-9E82-399207A8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C08-5AFD-4E43-BFF2-922189DA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2EB-8951-4115-94CF-06C1C467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879-EA90-48CB-81AA-EA209EE3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EF93-97F9-46A4-BD96-07EAFDAC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7382-63E3-413F-8128-86FF3895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9B93-F7EC-48E2-846D-42E8952A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A928-C1E2-4A44-9C97-DFCBD995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C2B3-3ACB-493F-A457-69D6B15E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C168-266B-4893-9A63-1FAAEE41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4E86-A343-4957-970C-3F7DD6FE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5C1-219D-4338-8AEC-E361D530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C08E-6E20-4153-B933-99913241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F403-BEE9-4DF5-B92E-7B00BE33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69ED-77AE-489C-97CA-62DAB263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EF7D-2EE6-4EA4-B769-2E461CD4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D2B9-F236-48FC-A824-7CFA5E20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2164-B158-4BEE-889F-F457C81A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C08-46EE-41C1-A13A-42688A1B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F26-C93E-447D-99B2-B6AA513D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657-C2A4-48EF-A6BA-64922212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0BB-8BDE-43B7-B6EC-17996E1A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5AB-D8A0-4288-9542-F0522B82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D53-3684-4466-870A-846D25BA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1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1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1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29CD-A069-4F6E-8E30-E827F4AC9CE7}" type="slidenum">
              <a:rPr b="0" lang="en-US" sz="1200" spc="-1" strike="noStrike">
                <a:solidFill>
                  <a:srgbClr val="4b251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1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1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1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65D7-3AC8-4CA4-8A5E-57DEC40BC42A}" type="slidenum">
              <a:rPr b="0" lang="en-US" sz="1200" spc="-1" strike="noStrike">
                <a:solidFill>
                  <a:srgbClr val="4b251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&#1091;&#1088;&#1086;&#1082;%20&#1084;&#1072;&#1090;&#1077;&#1084;&#1072;&#1090;&#1080;&#1082;&#1080;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024360" cy="2899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2951280" cy="2828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11814" r="-866" b="26872"/>
          <a:stretch/>
        </p:blipFill>
        <p:spPr>
          <a:xfrm>
            <a:off x="611280" y="1700280"/>
            <a:ext cx="8208720" cy="374328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2"/>
          </p:cNvPr>
          <p:cNvSpPr/>
          <p:nvPr/>
        </p:nvSpPr>
        <p:spPr>
          <a:xfrm>
            <a:off x="7812000" y="6021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http://www.gifpark.ru/Gifs/ANIMALS/ani-penguin_dancing.gif"/>
          <p:cNvPicPr/>
          <p:nvPr/>
        </p:nvPicPr>
        <p:blipFill>
          <a:blip r:embed="rId1"/>
          <a:stretch/>
        </p:blipFill>
        <p:spPr>
          <a:xfrm>
            <a:off x="468360" y="907920"/>
            <a:ext cx="1857240" cy="185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http://www.gifpark.ru/Gifs/ANIMALS/ani-penguin_dancing.gif"/>
          <p:cNvPicPr/>
          <p:nvPr/>
        </p:nvPicPr>
        <p:blipFill>
          <a:blip r:embed="rId2"/>
          <a:stretch/>
        </p:blipFill>
        <p:spPr>
          <a:xfrm>
            <a:off x="4572000" y="3500280"/>
            <a:ext cx="1857240" cy="185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http://www.gifpark.ru/Gifs/ANIMALS/ani-penguin_dancing.gif"/>
          <p:cNvPicPr/>
          <p:nvPr/>
        </p:nvPicPr>
        <p:blipFill>
          <a:blip r:embed="rId3"/>
          <a:stretch/>
        </p:blipFill>
        <p:spPr>
          <a:xfrm>
            <a:off x="2484360" y="213372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http://www.gifpark.ru/Gifs/ANIMALS/ani-penguin_dancing.gif"/>
          <p:cNvPicPr/>
          <p:nvPr/>
        </p:nvPicPr>
        <p:blipFill>
          <a:blip r:embed="rId4"/>
          <a:stretch/>
        </p:blipFill>
        <p:spPr>
          <a:xfrm>
            <a:off x="6732720" y="4724280"/>
            <a:ext cx="1857240" cy="18576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187020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984320" cy="2520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372360" y="2133720"/>
            <a:ext cx="1869840" cy="237636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http://www.clubdances.ru/dance/196.gif"/>
          <p:cNvPicPr/>
          <p:nvPr/>
        </p:nvPicPr>
        <p:blipFill>
          <a:blip r:embed="rId1"/>
          <a:stretch/>
        </p:blipFill>
        <p:spPr>
          <a:xfrm>
            <a:off x="755640" y="141300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www.clubdances.ru/dance/196.gif"/>
          <p:cNvPicPr/>
          <p:nvPr/>
        </p:nvPicPr>
        <p:blipFill>
          <a:blip r:embed="rId2"/>
          <a:stretch/>
        </p:blipFill>
        <p:spPr>
          <a:xfrm>
            <a:off x="4788000" y="1341360"/>
            <a:ext cx="3384360" cy="338472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3025800" cy="2855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flipH="1">
            <a:off x="4787640" y="2133720"/>
            <a:ext cx="2879640" cy="285408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6" descr="страус, анимашка, анимация"/>
          <p:cNvPicPr/>
          <p:nvPr/>
        </p:nvPicPr>
        <p:blipFill>
          <a:blip r:embed="rId1"/>
          <a:stretch/>
        </p:blipFill>
        <p:spPr>
          <a:xfrm>
            <a:off x="971640" y="1916280"/>
            <a:ext cx="3105000" cy="424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6" descr="страус, анимашка, анимация"/>
          <p:cNvPicPr/>
          <p:nvPr/>
        </p:nvPicPr>
        <p:blipFill>
          <a:blip r:embed="rId2"/>
          <a:stretch/>
        </p:blipFill>
        <p:spPr>
          <a:xfrm>
            <a:off x="5003640" y="2133720"/>
            <a:ext cx="3105360" cy="42480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2879640" cy="2401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3167280" cy="264132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24360" y="2781360"/>
            <a:ext cx="2795760" cy="3744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flipH="1">
            <a:off x="611280" y="2924280"/>
            <a:ext cx="3036960" cy="37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flipH="1">
            <a:off x="3203640" y="549360"/>
            <a:ext cx="2394000" cy="295272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4537080" cy="402912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5:26:20Z</dcterms:created>
  <dc:creator>Вжещ Елена Викторовна</dc:creator>
  <dc:description/>
  <dc:language>en-US</dc:language>
  <cp:lastModifiedBy>Sveta</cp:lastModifiedBy>
  <dcterms:modified xsi:type="dcterms:W3CDTF">2012-01-26T12:07:53Z</dcterms:modified>
  <cp:revision>26</cp:revision>
  <dc:subject/>
  <dc:title>Слайд 1</dc:title>
</cp:coreProperties>
</file>